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C6E0-4D7F-41A8-9FC7-02083B77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1E94-980D-414E-8806-5F5FB950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63C1-0D38-4A25-8D66-13A06035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AA2B-A4B6-4E07-95F2-36CFE246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47BB-5175-4176-9142-D48919D6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9B55-113F-4A8D-9275-DC5E8B55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C247-8FB6-4B21-983F-00CBF387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AB1F-BD7D-44E7-ABD2-907F3F09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C5FA-A467-4475-81B0-922DDD9E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FE22-D2AD-4A41-8A59-0D2EDB4F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54A7-FF65-4F8A-BBF0-D7704D24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D6E5-23A3-4746-9768-04D1DE3A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4722-910E-464A-84A0-18F174EC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F798-16F6-4583-9C98-7B81C359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E634-7280-41FE-86A6-1A12E918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97D7-0441-42A2-8268-830CEACD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0CA4-BB1C-444D-B25E-46BAFA0F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7A4C-F2E4-4FF2-B911-4180FB65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39B6-FA7C-41D4-8A00-21DA2068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DCA7-A745-4F27-A854-66161ED9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9ED9-746F-4906-BEF6-B54A00F2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B8F9-E17F-464B-AD13-8A23EC60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3666-B96A-4459-95F5-3FFB8666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2D4E-95D7-43CB-8178-62B6D2AB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CFF1-99AA-49E5-99C2-D2307DF1A78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8CAE-B0F3-4E49-82A8-488DE2F55D7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628880" cy="6172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4920" y="2438280"/>
            <a:ext cx="380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lfaen"/>
              </a:rPr>
              <a:t>I think, at a child’s birth, if a mother could ask a fairy godmother to endow it with the most useful gift, that gift would be curiosity. –Eleanor Roosev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01:03:39Z</dcterms:created>
  <dc:creator>Hugelman</dc:creator>
  <dc:description/>
  <dc:language>en-US</dc:language>
  <cp:lastModifiedBy>Hugelman</cp:lastModifiedBy>
  <dcterms:modified xsi:type="dcterms:W3CDTF">2010-05-07T01:19:44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